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7FAA7-A86A-4292-8D6D-13A7A9B157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level – fair execution of process steps and user automata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level – fair access to shared re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passes….if a process is in T for some time, the during this time, some other user may enter C only a number of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 exclusion : similar to dijkstra. If proc I and j are in C, assume I sets flag first. After j sets flag to 1, it has to check to see if I has flag = 1, but this will happen while flag(i)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ex: means that if two things are in C, then number(i),I &lt; number(j),j and vice versa which is a contrad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: Proof by contradiction. Suppose all processes in T or R because progress is not guaranteed. All processes in T eventually complete so process with lowest is going to enter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out freedom: complex pro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writer: Process I goes from T to C…writes atleast one shared var. So if there are two process, then atleast n shared vars req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relation: s pi sprime where s and sprime are automaton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enabled: for every automaton state S and transition pi, there is exists sprime such that s pi sprime is in tr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ity restrictions: Any state change not involving shared var can change state in local process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variables: only read and 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region is between try and cr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 is between crit and ex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t is between exit and 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 is between rem and nex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formed: A try-crit-exit-rem is the prefix to many more s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ex: No reachable system state in which more than one user is in a critical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: If one program is in try and none in critical then at some point someone enters C. Similarly for exit region and non 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wo are safety properties,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iveness….notion of fairness in pro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responsibility for progress….upto users also…not just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out: No guarantee that everyone will get to critical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5AFC8-DC66-4CB9-B837-A480DEAC3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20CC1-17B9-44C7-9C7F-FC29120B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3191C-9D3A-423E-8E41-9096B6FE0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43293-76A2-4BEF-B9E2-1ECCFA13A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9052-F04D-41B3-B886-74E0D354C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94D7-E696-4414-B960-B7811953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417F-A021-4089-8977-2AF424E7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D6DB-24FB-45F8-9EF2-298624FD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FBB9-56F7-4E37-9D26-0DBC1C82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87EC-44ED-462F-94C0-025D2014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60C5-D9CD-4391-A10B-2F255A3B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0AABB-65AE-4B91-955D-6180BDBF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01DE-0E62-430A-9E87-30742173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EB0E-3D17-4A0E-A25F-5CE92D48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55BC-7149-4962-947D-016E1216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25EE-BB53-4F11-A2C2-9C89AED2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9A12-C36A-48A9-896C-8C0FE9823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7BEDB-F7CF-4AD0-A92B-C0F1EE40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9A203-44B1-4611-AC90-5D087E56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01A8F-BC60-425C-927D-A2F83C02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DFDE0-999C-49E4-85E1-458966FC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CA438-BA01-471E-8208-EBCDC8F6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6F026-45C0-4236-8A3E-0D024F27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4F0E8-BC9E-4780-BF13-10740EF7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A42F-B02B-474B-8CAE-F479D15789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6DF1-7F16-4542-9C33-707123B0B7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utual Exclus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esented by: Rohan S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istributed Algorithms Ch. 1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onger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lockouts or sta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ds of fair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level fair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level fair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onger Conditions (cont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kout free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user that reaches T eventually enters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user that reaches E eventually enters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bou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each user returns resource within 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each step is at mo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 you enter C at mo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 = f(l,c)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entering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ly, you enter R at mo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 = f(l,c)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entering 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byp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NP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k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each level eliminate on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– k processes can win at level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process can win at level n – 1, yielding mutual ex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NP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85800" y="2362320"/>
                <a:ext cx="4425840" cy="17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very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very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urn(k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d / wr by all, initially arbit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lag(i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d by all j ≠ i / wr by I, initially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6002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NP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066680" y="1981080"/>
                <a:ext cx="5829480" cy="335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aitfor</m:t>
                        </m:r>
                        <m:r>
                          <m:t xml:space="preserve">[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NP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well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sfies mutual ex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kout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g. Using Single Writer Shared Registers (BurnsME Algorith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if anyone else is trying to get a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 claim on the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nsM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09480" y="2286000"/>
                <a:ext cx="345276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very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lag(i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r by i / rd by all j ≠ I, initially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nsM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066680" y="1828800"/>
                <a:ext cx="381024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t xml:space="preserve">L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j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oto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j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oto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j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oto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nsM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well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mutual ex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 that will be cove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 and problem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jkstra’s Mutual Exclusion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er Conditions for Mutual Exclusion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out-free Mutual Exclusion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Writer Shared Register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kery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O after a wait-free door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orway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one picks a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s for everyone to fi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 ties and enter critical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57200" y="2057400"/>
                <a:ext cx="33940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very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hoosn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∈</m:t>
                        </m:r>
                        <m:r>
                          <m:t xml:space="preserve"> </m:t>
                        </m:r>
                        <m:r>
                          <m:t xml:space="preserve">Ν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oosng(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 by i / rd by all j ≠ I, initially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umber(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 by i / rd by all j ≠ I, initially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2577600"/>
            <a:ext cx="40384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85800" y="1828800"/>
                <a:ext cx="7924680" cy="42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oosn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oosn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ait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hoosn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aitfornumber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well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sfies mutual ex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lockout free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er bound on # regi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solve mutual exclusion with &lt;n shared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writer shared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 writer shared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exclusion: One at a time access to a shared re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exclusion w/o 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exclusion w/ 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izing the number of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2590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hared memory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process is a kind of stat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kinds of actions: input, output, in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ommunication via the shared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s a transition relation for all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is input-en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output and internal en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ity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shared variable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ion of single, indivisible, non-shareable resource amo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s by a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ing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inder (non-critical reg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05520" y="2666880"/>
            <a:ext cx="1981080" cy="20574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02800" y="2666880"/>
            <a:ext cx="5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05720" y="2895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010280" y="3429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7057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5880" y="5029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interface of a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lem (cont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ared memory syste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lves the mutual exclusion probl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the following conditions are satisfi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forme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ual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jkstra’s Mutual Exclusion Al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two stage flag to indicate what stage of processing a user i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mutual exclusion by ensuring that only one flag at a time has a value to let it into the critical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jkstra’s Mutual Exclusion Al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762120" y="2311560"/>
                <a:ext cx="60195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very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,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ur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 / wr by all processes, intially arbit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lag(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 by all / wr by I, initially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75248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red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jkstra’s Mutual Exclusion Al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295280" y="1752480"/>
                <a:ext cx="4876920" cy="460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t xml:space="preserve">L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i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 </m:t>
                        </m:r>
                        <m:r>
                          <m:t xml:space="preserve">≠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oto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jkstra’s Mutual Exclusion Al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well-forme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inspection of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sfies mutual ex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statu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mplex p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04:22:41Z</dcterms:created>
  <dc:creator>Rohan Sen</dc:creator>
  <dc:description/>
  <dc:language>en-US</dc:language>
  <cp:lastModifiedBy>Rohan Sen</cp:lastModifiedBy>
  <dcterms:modified xsi:type="dcterms:W3CDTF">2003-09-19T18:11:57Z</dcterms:modified>
  <cp:revision>27</cp:revision>
  <dc:subject/>
  <dc:title>Mutual Exclusion</dc:title>
</cp:coreProperties>
</file>